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2.wmf" ContentType="image/x-wmf"/>
  <Override PartName="/ppt/media/image32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13.wmf" ContentType="image/x-wmf"/>
  <Override PartName="/ppt/media/image30.png" ContentType="image/png"/>
  <Override PartName="/ppt/media/image4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42.wmf" ContentType="image/x-wmf"/>
  <Override PartName="/ppt/media/image28.png" ContentType="image/png"/>
  <Override PartName="/ppt/media/image31.wmf" ContentType="image/x-wmf"/>
  <Override PartName="/ppt/media/image46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38.wmf" ContentType="image/x-wmf"/>
  <Override PartName="/ppt/media/image8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35.wmf" ContentType="image/x-wmf"/>
  <Override PartName="/ppt/media/image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5478-C12F-4F6C-9308-486A876B6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4530-A295-46DE-B2B1-768C7FC8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8F71-EE38-4E63-9823-C2402BB2A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ECEF-25DA-4D23-B89D-0ABED556E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F7A4-C1FE-4F8B-A686-BD56951FC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7228-0008-4138-8CB5-5D30B5DE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300A-DD1B-45CC-9A99-0E41F323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DD4E-6DAB-4D4C-98C3-30AD98BB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A74D-3DED-413B-9521-17370548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8944-BE70-4612-90F5-00F4620C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5AB6-3AA4-4CBB-83B6-9D3577E8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8074-2E59-421F-A8B9-920B8064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BA713-6C6F-4767-B300-921F9B1D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630A-D43B-4FB9-B9E9-E0635982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A4E1-0E27-418E-9D69-C96D98A0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CAE1-529C-45C7-8D17-B92718C6D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25A5-A30D-4BF9-9C38-A6FFE78C3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72AE7B-E727-4387-8BF4-50C034506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95EAA8-66C3-41BB-9421-0EBDC316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0F4A66-5CEC-4102-BCC5-325276AC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03FB28-88B5-4592-8F45-26F9706F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0BCDDE-30E2-44E0-A24F-3501EAC2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0FB9-5612-4F0D-B322-8AA3049A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10A889-991A-43AC-9B31-08B3058C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7AC7E5-5EC4-43D1-B8EB-64A0A0E5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C22827-E1EA-4656-822C-F64E5102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0E60FA-84DA-4DCF-82D8-ED34F40D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1CA883-66B2-43C7-B652-7B19FA80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E3677B-E412-48C0-993D-9B4602E3F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12ABA4-A20A-4E8E-9B34-E64D2A8DD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D0814-23F1-4457-A96D-C7FFE5C9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5C2AD-F99A-4013-863D-FDFB441A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D537F-F329-47A9-9724-008D74F9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48C2-1095-4E91-A8C0-9A778B3E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8073B-44F7-4711-8A4A-80F356EA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51D7B-FFEC-4027-8916-B419A80E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163B9-F3C9-47DB-81F5-D889C693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E947A-F3BE-49A4-AF99-8496D3C6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E63CD-5F9B-4A78-B279-983F27B4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4D4DA-A3DD-4281-A35C-3530A6C8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A5201-B172-44E6-B4D3-EEEFDC5D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723F2-141C-4D4A-A78B-6104B054B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77B6F-E8C4-4DA1-A55A-76E7EB4D4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1CDF-AC29-47E5-AF6C-4279E1D8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718B-FD27-4789-B584-4EC74886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9917-6F73-46A3-9C52-73DFCD4D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03A2-87B7-4A3D-B4BC-16679341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6F53-0472-4DFD-9362-7C13F293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8A8F-A6F8-4CEE-A465-2E5A424118F6}" type="slidenum">
              <a:rPr b="0" lang="ru-RU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D3F4-13D2-4F06-A791-C4E84E48EF5B}" type="slidenum">
              <a:rPr b="0" lang="ru-RU" sz="1200" spc="-1" strike="noStrike">
                <a:solidFill>
                  <a:srgbClr val="94c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2354-ECB1-4ADB-8269-143942E90D4D}" type="slidenum">
              <a:rPr b="0" lang="ru-RU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B8BA-72DF-48A9-BFC7-8BF780BB6CBD}" type="slidenum">
              <a:rPr b="0" lang="ru-RU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3.wmf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9.wmf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Century Gothic"/>
              </a:rPr>
              <a:t>РАСКРЫТИЕ  НЕОПРЕДЕЛЕННОСТЕЙ</a:t>
            </a:r>
            <a:br>
              <a:rPr sz="2800"/>
            </a:br>
            <a:r>
              <a:rPr b="0" lang="ru-RU" sz="2800" spc="-1" strike="noStrike">
                <a:solidFill>
                  <a:srgbClr val="993300"/>
                </a:solidFill>
                <a:latin typeface="Century Gothic"/>
              </a:rPr>
              <a:t>Правило Лопиталя ( </a:t>
            </a:r>
            <a:r>
              <a:rPr b="0" lang="en-US" sz="2800" spc="-1" strike="noStrike">
                <a:solidFill>
                  <a:srgbClr val="993300"/>
                </a:solidFill>
                <a:latin typeface="Century Gothic"/>
              </a:rPr>
              <a:t>L’Hopitale)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Picture 1" descr="http://www.math24.ru/images/Hopital.jpg"/>
          <p:cNvPicPr/>
          <p:nvPr/>
        </p:nvPicPr>
        <p:blipFill>
          <a:blip r:embed="rId1"/>
          <a:stretch/>
        </p:blipFill>
        <p:spPr>
          <a:xfrm>
            <a:off x="684360" y="2349360"/>
            <a:ext cx="3024000" cy="3608640"/>
          </a:xfrm>
          <a:prstGeom prst="rect">
            <a:avLst/>
          </a:prstGeom>
          <a:ln w="0">
            <a:noFill/>
          </a:ln>
        </p:spPr>
      </p:pic>
      <p:sp>
        <p:nvSpPr>
          <p:cNvPr id="337" name="Номер слайда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7F7C-37CF-4285-8D4E-77F68FD7D50D}" type="slidenum">
              <a:rPr b="0" lang="ru-RU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0"/>
          <p:cNvSpPr/>
          <p:nvPr/>
        </p:nvSpPr>
        <p:spPr>
          <a:xfrm>
            <a:off x="3924360" y="2060640"/>
            <a:ext cx="4248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Это правило вперв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упоминалось в кни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о дифференциально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исчислению, опубликован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 1696  го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французским математик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Гийомом Лопитал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(1661- 1704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651204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Пример </a:t>
            </a: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2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6840" y="1125000"/>
            <a:ext cx="181116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3d2d"/>
                </a:solidFill>
                <a:latin typeface="Century Gothic"/>
              </a:rPr>
              <a:t>Найти</a:t>
            </a:r>
            <a:r>
              <a:rPr b="1" i="1" lang="en-U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87C9-EA95-482F-A3CB-C8AA695AC80E}" type="slidenum">
              <a:rPr b="0" lang="ru-RU" sz="12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Объект 4"/>
              <p:cNvSpPr txBox="1"/>
              <p:nvPr/>
            </p:nvSpPr>
            <p:spPr>
              <a:xfrm>
                <a:off x="585720" y="1484280"/>
                <a:ext cx="343872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7" name="TextBox 5"/>
          <p:cNvSpPr/>
          <p:nvPr/>
        </p:nvSpPr>
        <p:spPr>
          <a:xfrm>
            <a:off x="133200" y="2708280"/>
            <a:ext cx="67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Решение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. Имеем неопределенность в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Объект 6"/>
              <p:cNvSpPr txBox="1"/>
              <p:nvPr/>
            </p:nvSpPr>
            <p:spPr>
              <a:xfrm>
                <a:off x="6667560" y="2492280"/>
                <a:ext cx="6271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0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Объект 7"/>
              <p:cNvSpPr txBox="1"/>
              <p:nvPr/>
            </p:nvSpPr>
            <p:spPr>
              <a:xfrm>
                <a:off x="1379520" y="3213000"/>
                <a:ext cx="5261040" cy="27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0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r>
                                          <m:t xml:space="preserve">x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x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Заголовок 1" descr=""/>
          <p:cNvPicPr/>
          <p:nvPr/>
        </p:nvPicPr>
        <p:blipFill>
          <a:blip r:embed="rId1"/>
          <a:stretch/>
        </p:blipFill>
        <p:spPr>
          <a:xfrm>
            <a:off x="878040" y="476280"/>
            <a:ext cx="6608520" cy="2522520"/>
          </a:xfrm>
          <a:prstGeom prst="rect">
            <a:avLst/>
          </a:prstGeom>
          <a:ln w="0">
            <a:noFill/>
          </a:ln>
        </p:spPr>
      </p:pic>
      <p:sp>
        <p:nvSpPr>
          <p:cNvPr id="461" name="Номер слайда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5711-47A0-4153-8194-03C219C3C23A}" type="slidenum">
              <a:rPr b="0" lang="ru-RU" sz="1200" spc="-1" strike="noStrike">
                <a:solidFill>
                  <a:srgbClr val="3e3d2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2" name="Объект 6"/>
              <p:cNvSpPr txBox="1"/>
              <p:nvPr/>
            </p:nvSpPr>
            <p:spPr>
              <a:xfrm>
                <a:off x="5003640" y="765000"/>
                <a:ext cx="5749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0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Объект 7"/>
              <p:cNvSpPr txBox="1"/>
              <p:nvPr/>
            </p:nvSpPr>
            <p:spPr>
              <a:xfrm>
                <a:off x="3924360" y="2224080"/>
                <a:ext cx="461304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x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x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4" name="TextBox 10"/>
          <p:cNvSpPr/>
          <p:nvPr/>
        </p:nvSpPr>
        <p:spPr>
          <a:xfrm>
            <a:off x="491760" y="3182760"/>
            <a:ext cx="20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e3d2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Gothic"/>
              </a:rPr>
              <a:t>Ответ</a:t>
            </a:r>
            <a:r>
              <a:rPr b="1" i="1" lang="en-US" sz="2400" spc="-1" strike="noStrike">
                <a:solidFill>
                  <a:srgbClr val="000000"/>
                </a:solidFill>
                <a:latin typeface="Century Gothic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Объект 11"/>
              <p:cNvSpPr txBox="1"/>
              <p:nvPr/>
            </p:nvSpPr>
            <p:spPr>
              <a:xfrm>
                <a:off x="3780000" y="3645000"/>
                <a:ext cx="215712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6" name="TextBox 12"/>
          <p:cNvSpPr/>
          <p:nvPr/>
        </p:nvSpPr>
        <p:spPr>
          <a:xfrm>
            <a:off x="419040" y="4479840"/>
            <a:ext cx="67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e3d2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Gothic"/>
              </a:rPr>
              <a:t>Решение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Имеем неопределенность в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Объект 13"/>
              <p:cNvSpPr txBox="1"/>
              <p:nvPr/>
            </p:nvSpPr>
            <p:spPr>
              <a:xfrm>
                <a:off x="7380360" y="4451400"/>
                <a:ext cx="1282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∞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8" name="TextBox 14"/>
          <p:cNvSpPr/>
          <p:nvPr/>
        </p:nvSpPr>
        <p:spPr>
          <a:xfrm>
            <a:off x="684360" y="5127480"/>
            <a:ext cx="71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ереписываем данное выражение в ви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TextBox 2" descr=""/>
          <p:cNvPicPr/>
          <p:nvPr/>
        </p:nvPicPr>
        <p:blipFill>
          <a:blip r:embed="rId2"/>
          <a:stretch/>
        </p:blipFill>
        <p:spPr>
          <a:xfrm>
            <a:off x="1047600" y="3560760"/>
            <a:ext cx="27259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Заголовок 1" descr=""/>
          <p:cNvPicPr/>
          <p:nvPr/>
        </p:nvPicPr>
        <p:blipFill>
          <a:blip r:embed="rId1"/>
          <a:stretch/>
        </p:blipFill>
        <p:spPr>
          <a:xfrm>
            <a:off x="901800" y="2120760"/>
            <a:ext cx="6742080" cy="1670040"/>
          </a:xfrm>
          <a:prstGeom prst="rect">
            <a:avLst/>
          </a:prstGeom>
          <a:ln w="0">
            <a:noFill/>
          </a:ln>
        </p:spPr>
      </p:pic>
      <p:sp>
        <p:nvSpPr>
          <p:cNvPr id="471" name="Номер слайда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360E-A469-4AEF-BB60-A9F018A5A16C}" type="slidenum">
              <a:rPr b="0" lang="ru-RU" sz="12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Объект 6"/>
              <p:cNvSpPr txBox="1"/>
              <p:nvPr/>
            </p:nvSpPr>
            <p:spPr>
              <a:xfrm>
                <a:off x="6516720" y="2060640"/>
                <a:ext cx="720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∞</m:t>
                            </m:r>
                          </m:num>
                          <m:den>
                            <m:r>
                              <m:t xml:space="preserve">∞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3" name="TextBox 10"/>
          <p:cNvSpPr/>
          <p:nvPr/>
        </p:nvSpPr>
        <p:spPr>
          <a:xfrm>
            <a:off x="491760" y="5703840"/>
            <a:ext cx="207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Ответ</a:t>
            </a: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: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Объект 2"/>
              <p:cNvSpPr txBox="1"/>
              <p:nvPr/>
            </p:nvSpPr>
            <p:spPr>
              <a:xfrm>
                <a:off x="826920" y="595440"/>
                <a:ext cx="4969080" cy="13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limLow>
                      <m:e>
                        <m:eqArr>
                          <m:e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</m:e>
                        </m:eqArr>
                      </m:e>
                      <m:lim/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limLow>
                      <m:e>
                        <m:eqArr>
                          <m:e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</m:e>
                        </m:eqArr>
                      </m:e>
                      <m:lim/>
                    </m:limLow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x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den>
                        </m:f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Объект 5"/>
              <p:cNvSpPr txBox="1"/>
              <p:nvPr/>
            </p:nvSpPr>
            <p:spPr>
              <a:xfrm>
                <a:off x="755640" y="3500280"/>
                <a:ext cx="6985080" cy="18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limLow>
                      <m:e>
                        <m:eqArr>
                          <m:e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</m:e>
                        </m:eqArr>
                      </m:e>
                      <m:lim/>
                    </m:limLow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x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∞</m:t>
                            </m:r>
                          </m:num>
                          <m:den>
                            <m:r>
                              <m:t xml:space="preserve">∞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limLow>
                      <m:e>
                        <m:eqArr>
                          <m:e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</m:e>
                        </m:eqArr>
                      </m:e>
                      <m:lim/>
                    </m:limLow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num>
                          <m:den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limLow>
                      <m:e>
                        <m:eqArr>
                          <m:e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</m:e>
                        </m:eqArr>
                      </m:e>
                      <m:lim/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i="1" lang="ru-RU" sz="2200" spc="-1" strike="noStrike" u="sng">
                <a:solidFill>
                  <a:srgbClr val="94c600"/>
                </a:solidFill>
                <a:uFillTx/>
                <a:latin typeface="Century Gothic"/>
              </a:rPr>
              <a:t>ПРИЕМЫ  РАСКРЫТИЯ  НЕОПРЕДЕЛЕННОСТЕЙ</a:t>
            </a:r>
            <a:endParaRPr b="0" lang="en-US" sz="2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1557360"/>
            <a:ext cx="770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Century Gothic"/>
              </a:rPr>
              <a:t>3)</a:t>
            </a:r>
            <a:r>
              <a:rPr b="1" lang="ru-RU" sz="2400" spc="-1" strike="noStrike">
                <a:solidFill>
                  <a:srgbClr val="000099"/>
                </a:solidFill>
                <a:latin typeface="Century Gothic"/>
              </a:rPr>
              <a:t>  </a:t>
            </a:r>
            <a:r>
              <a:rPr b="1" i="1" lang="ru-RU" sz="2400" spc="-1" strike="noStrike">
                <a:solidFill>
                  <a:srgbClr val="000099"/>
                </a:solidFill>
                <a:latin typeface="Century Gothic"/>
              </a:rPr>
              <a:t>Неопределенности  типа    </a:t>
            </a:r>
            <a:r>
              <a:rPr b="1" lang="ru-RU" sz="2400" spc="-1" strike="noStrike">
                <a:solidFill>
                  <a:srgbClr val="000099"/>
                </a:solidFill>
                <a:latin typeface="Century Gothic"/>
              </a:rPr>
              <a:t>(            </a:t>
            </a:r>
            <a:r>
              <a:rPr b="0" lang="ru-RU" sz="2400" spc="-1" strike="noStrike">
                <a:solidFill>
                  <a:srgbClr val="000099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ля вычисления предел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  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тносящегося к неопределенности типа                     следует представить разность                         в виде неопределенности типа         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алее воспользоваться правилом Лопиталя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8" name="Номер слайда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33F5-A39A-4097-9977-26E421D98C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5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0" name="Object 4"/>
          <p:cNvGraphicFramePr/>
          <p:nvPr/>
        </p:nvGraphicFramePr>
        <p:xfrm>
          <a:off x="5435640" y="1628640"/>
          <a:ext cx="1125360" cy="33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1628640"/>
                    <a:ext cx="112536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2" name="Rectangle 7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Object 6"/>
          <p:cNvGraphicFramePr/>
          <p:nvPr/>
        </p:nvGraphicFramePr>
        <p:xfrm>
          <a:off x="4788000" y="2060640"/>
          <a:ext cx="2808360" cy="70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2060640"/>
                    <a:ext cx="280836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6" name="Object 8"/>
          <p:cNvGraphicFramePr/>
          <p:nvPr/>
        </p:nvGraphicFramePr>
        <p:xfrm>
          <a:off x="7093080" y="2708280"/>
          <a:ext cx="1079280" cy="318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93080" y="2708280"/>
                    <a:ext cx="107928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9" name="Object 10"/>
          <p:cNvGraphicFramePr/>
          <p:nvPr/>
        </p:nvGraphicFramePr>
        <p:xfrm>
          <a:off x="5435640" y="3097080"/>
          <a:ext cx="1800360" cy="540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0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35640" y="3097080"/>
                    <a:ext cx="180036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2" name="Object 12"/>
          <p:cNvGraphicFramePr/>
          <p:nvPr/>
        </p:nvGraphicFramePr>
        <p:xfrm>
          <a:off x="5364000" y="3500280"/>
          <a:ext cx="289080" cy="792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93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64000" y="3500280"/>
                    <a:ext cx="2890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Object 14"/>
          <p:cNvGraphicFramePr/>
          <p:nvPr/>
        </p:nvGraphicFramePr>
        <p:xfrm>
          <a:off x="1187280" y="4140360"/>
          <a:ext cx="5905800" cy="1952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96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87280" y="4140360"/>
                    <a:ext cx="590580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37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4c600"/>
                </a:solidFill>
                <a:latin typeface="Century Gothic"/>
              </a:rPr>
              <a:t>Пример  5</a:t>
            </a:r>
            <a:endParaRPr b="0" lang="en-US" sz="2200" spc="-1" strike="noStrike">
              <a:solidFill>
                <a:srgbClr val="94c6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Объект 4"/>
              <p:cNvSpPr txBox="1"/>
              <p:nvPr/>
            </p:nvSpPr>
            <p:spPr>
              <a:xfrm>
                <a:off x="1932120" y="2637000"/>
                <a:ext cx="4655880" cy="26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1</m:t>
                            </m:r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∞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1</m:t>
                            </m:r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0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1</m:t>
                            </m:r>
                          </m:lim>
                        </m:limLow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1</m:t>
                            </m:r>
                          </m:lim>
                        </m:limLow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9" name="Номер слайда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F567-77AD-4E72-ABE2-818BF9AB80E7}" type="slidenum">
              <a:rPr b="0" lang="ru-RU" sz="1200" spc="-1" strike="noStrike">
                <a:solidFill>
                  <a:srgbClr val="3e3d2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оугольник 5"/>
          <p:cNvSpPr/>
          <p:nvPr/>
        </p:nvSpPr>
        <p:spPr>
          <a:xfrm>
            <a:off x="385920" y="1125360"/>
            <a:ext cx="152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т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Object 3"/>
              <p:cNvSpPr txBox="1"/>
              <p:nvPr/>
            </p:nvSpPr>
            <p:spPr>
              <a:xfrm>
                <a:off x="1908000" y="949320"/>
                <a:ext cx="22370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2" name="TextBox 3"/>
          <p:cNvSpPr/>
          <p:nvPr/>
        </p:nvSpPr>
        <p:spPr>
          <a:xfrm>
            <a:off x="400680" y="2060640"/>
            <a:ext cx="16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3"/>
          <p:cNvSpPr/>
          <p:nvPr/>
        </p:nvSpPr>
        <p:spPr>
          <a:xfrm>
            <a:off x="541440" y="5445000"/>
            <a:ext cx="117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Object 8"/>
              <p:cNvSpPr txBox="1"/>
              <p:nvPr/>
            </p:nvSpPr>
            <p:spPr>
              <a:xfrm>
                <a:off x="1692360" y="5327640"/>
                <a:ext cx="55224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66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4c600"/>
                </a:solidFill>
                <a:uFillTx/>
                <a:latin typeface="Century Gothic"/>
              </a:rPr>
              <a:t>ПРИЕМЫ  РАСКРЫТИЯ  НЕОПРЕДЕЛЕННОСТЕЙ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250560" y="1125000"/>
            <a:ext cx="87138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Century Gothic"/>
              </a:rPr>
              <a:t>4)  Неопределенности  типа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07" name="Номер слайда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B8BD-AAD5-4A70-A56E-63CFBB52A9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9" name="Object 4"/>
          <p:cNvGraphicFramePr/>
          <p:nvPr/>
        </p:nvGraphicFramePr>
        <p:xfrm>
          <a:off x="6121440" y="1125360"/>
          <a:ext cx="208764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1440" y="1125360"/>
                    <a:ext cx="20876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" name="Rectangle 6"/>
          <p:cNvSpPr/>
          <p:nvPr/>
        </p:nvSpPr>
        <p:spPr>
          <a:xfrm>
            <a:off x="469800" y="1843560"/>
            <a:ext cx="387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ычисления преде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Object 7"/>
          <p:cNvGraphicFramePr/>
          <p:nvPr/>
        </p:nvGraphicFramePr>
        <p:xfrm>
          <a:off x="4375080" y="1730520"/>
          <a:ext cx="1944720" cy="68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75080" y="1730520"/>
                    <a:ext cx="194472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Rectangle 10"/>
          <p:cNvSpPr/>
          <p:nvPr/>
        </p:nvSpPr>
        <p:spPr>
          <a:xfrm>
            <a:off x="245880" y="2564280"/>
            <a:ext cx="23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функци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Object 9"/>
          <p:cNvGraphicFramePr/>
          <p:nvPr/>
        </p:nvGraphicFramePr>
        <p:xfrm>
          <a:off x="2556000" y="2565360"/>
          <a:ext cx="1511280" cy="46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7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56000" y="2565360"/>
                    <a:ext cx="151128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8" name="Rectangle 11"/>
          <p:cNvSpPr/>
          <p:nvPr/>
        </p:nvSpPr>
        <p:spPr>
          <a:xfrm>
            <a:off x="324000" y="299628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лучаи, нужно выполнить следующие действ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3"/>
          <p:cNvSpPr/>
          <p:nvPr/>
        </p:nvSpPr>
        <p:spPr>
          <a:xfrm>
            <a:off x="46080" y="3427920"/>
            <a:ext cx="45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преобразовать выраж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0" name="Object 12"/>
          <p:cNvGraphicFramePr/>
          <p:nvPr/>
        </p:nvGraphicFramePr>
        <p:xfrm>
          <a:off x="4714920" y="3357720"/>
          <a:ext cx="1297080" cy="514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1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357720"/>
                    <a:ext cx="129708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2" name="Rectangle 14"/>
          <p:cNvSpPr/>
          <p:nvPr/>
        </p:nvSpPr>
        <p:spPr>
          <a:xfrm>
            <a:off x="3534480" y="3788280"/>
            <a:ext cx="45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логарифмического тождества: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5"/>
          <p:cNvSpPr/>
          <p:nvPr/>
        </p:nvSpPr>
        <p:spPr>
          <a:xfrm>
            <a:off x="421560" y="3789360"/>
            <a:ext cx="34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 помощью основ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6"/>
          <p:cNvSpPr/>
          <p:nvPr/>
        </p:nvSpPr>
        <p:spPr>
          <a:xfrm>
            <a:off x="4286520" y="2565360"/>
            <a:ext cx="373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падают в перечисл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8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6" name="Object 17"/>
          <p:cNvGraphicFramePr/>
          <p:nvPr/>
        </p:nvGraphicFramePr>
        <p:xfrm>
          <a:off x="2556000" y="4149720"/>
          <a:ext cx="4895640" cy="855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7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56000" y="4149720"/>
                    <a:ext cx="489564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Object 20"/>
          <p:cNvGraphicFramePr/>
          <p:nvPr/>
        </p:nvGraphicFramePr>
        <p:xfrm>
          <a:off x="5857920" y="4857840"/>
          <a:ext cx="2303280" cy="582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29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57920" y="4857840"/>
                    <a:ext cx="230328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Object 19"/>
          <p:cNvGraphicFramePr/>
          <p:nvPr/>
        </p:nvGraphicFramePr>
        <p:xfrm>
          <a:off x="6153120" y="5781600"/>
          <a:ext cx="1008000" cy="528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31" name="Object 1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53120" y="5781600"/>
                    <a:ext cx="100800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Rectangle 21"/>
          <p:cNvSpPr/>
          <p:nvPr/>
        </p:nvSpPr>
        <p:spPr>
          <a:xfrm>
            <a:off x="236880" y="4940640"/>
            <a:ext cx="54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)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ычислить предел произвед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2"/>
          <p:cNvSpPr/>
          <p:nvPr/>
        </p:nvSpPr>
        <p:spPr>
          <a:xfrm>
            <a:off x="2286000" y="5360040"/>
            <a:ext cx="574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х перечисленных случаях имеет неопределенность  типа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23"/>
          <p:cNvSpPr/>
          <p:nvPr/>
        </p:nvSpPr>
        <p:spPr>
          <a:xfrm>
            <a:off x="90360" y="38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24"/>
          <p:cNvSpPr/>
          <p:nvPr/>
        </p:nvSpPr>
        <p:spPr>
          <a:xfrm>
            <a:off x="642960" y="4941720"/>
            <a:ext cx="849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торое 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2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27"/>
          <p:cNvSpPr/>
          <p:nvPr/>
        </p:nvSpPr>
        <p:spPr>
          <a:xfrm>
            <a:off x="0" y="35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i="1" lang="ru-RU" sz="1800" spc="-1" strike="noStrike" u="sng">
                <a:solidFill>
                  <a:srgbClr val="94c600"/>
                </a:solidFill>
                <a:uFillTx/>
                <a:latin typeface="Century Gothic"/>
              </a:rPr>
              <a:t> </a:t>
            </a:r>
            <a:r>
              <a:rPr b="0" i="1" lang="ru-RU" sz="1800" spc="-1" strike="noStrike" u="sng">
                <a:solidFill>
                  <a:srgbClr val="94c600"/>
                </a:solidFill>
                <a:uFillTx/>
                <a:latin typeface="Century Gothic"/>
              </a:rPr>
              <a:t>ПРИЕМЫ  РАСКРЫТИЯ  НЕОПРЕДЕЛЕННОСТЕЙ</a:t>
            </a:r>
            <a:endParaRPr b="0" lang="en-US" sz="1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684000" y="1628280"/>
            <a:ext cx="79261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3)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воспользоваться свойством непрерывности функции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40" name="Номер слайда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87B2-7F25-4304-AAF1-378BC7420DED}" type="slidenum">
              <a:rPr b="0" lang="ru-RU" sz="1200" spc="-1" strike="noStrike">
                <a:solidFill>
                  <a:srgbClr val="3e3d2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2" name="Object 4"/>
          <p:cNvGraphicFramePr/>
          <p:nvPr/>
        </p:nvGraphicFramePr>
        <p:xfrm>
          <a:off x="2771640" y="1844640"/>
          <a:ext cx="1513080" cy="74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1844640"/>
                    <a:ext cx="151308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4" name="Rectangle 7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5" name="Object 6"/>
          <p:cNvGraphicFramePr/>
          <p:nvPr/>
        </p:nvGraphicFramePr>
        <p:xfrm>
          <a:off x="395280" y="2997360"/>
          <a:ext cx="7416720" cy="93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2997360"/>
                    <a:ext cx="741672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80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Пример 6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8" name="Объект 1"/>
              <p:cNvSpPr txBox="1"/>
              <p:nvPr/>
            </p:nvSpPr>
            <p:spPr>
              <a:xfrm>
                <a:off x="2268360" y="1442880"/>
                <a:ext cx="21574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9" name="Номер слайда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9B7A-D32D-4FD7-A622-6C97406433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2"/>
          <p:cNvSpPr/>
          <p:nvPr/>
        </p:nvSpPr>
        <p:spPr>
          <a:xfrm>
            <a:off x="979200" y="1557360"/>
            <a:ext cx="11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т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3"/>
          <p:cNvSpPr/>
          <p:nvPr/>
        </p:nvSpPr>
        <p:spPr>
          <a:xfrm>
            <a:off x="977040" y="2349360"/>
            <a:ext cx="16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Объект 4"/>
              <p:cNvSpPr txBox="1"/>
              <p:nvPr/>
            </p:nvSpPr>
            <p:spPr>
              <a:xfrm>
                <a:off x="770040" y="2781360"/>
                <a:ext cx="6538680" cy="33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</m:lim>
                        </m:limLow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⋅</m:t>
                            </m:r>
                            <m:r>
                              <m:t xml:space="preserve">∞</m:t>
                            </m:r>
                          </m:e>
                        </m:d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</m:lim>
                        </m:limLow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den>
                        </m:f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∞</m:t>
                                </m:r>
                              </m:num>
                              <m:den>
                                <m:r>
                                  <m:t xml:space="preserve">∞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x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1320840" y="2852280"/>
            <a:ext cx="13795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Так как 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4" name="Номер слайда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1EC7-C851-4B73-B6DE-F05B6BDA69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Объект 4"/>
              <p:cNvSpPr txBox="1"/>
              <p:nvPr/>
            </p:nvSpPr>
            <p:spPr>
              <a:xfrm>
                <a:off x="1560600" y="620640"/>
                <a:ext cx="3371760" cy="19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</m:e>
                      <m:e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x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n</m:t>
                                    </m:r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Объект 8"/>
              <p:cNvSpPr txBox="1"/>
              <p:nvPr/>
            </p:nvSpPr>
            <p:spPr>
              <a:xfrm>
                <a:off x="2940120" y="2205000"/>
                <a:ext cx="249552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57" name="TextBox 11"/>
          <p:cNvSpPr/>
          <p:nvPr/>
        </p:nvSpPr>
        <p:spPr>
          <a:xfrm>
            <a:off x="1508400" y="4365720"/>
            <a:ext cx="1407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Отсю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Объект 12"/>
              <p:cNvSpPr txBox="1"/>
              <p:nvPr/>
            </p:nvSpPr>
            <p:spPr>
              <a:xfrm>
                <a:off x="2719440" y="4221000"/>
                <a:ext cx="269856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9" name="TextBox 13"/>
          <p:cNvSpPr/>
          <p:nvPr/>
        </p:nvSpPr>
        <p:spPr>
          <a:xfrm>
            <a:off x="3421800" y="5661000"/>
            <a:ext cx="1579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Ответ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: 1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Объект 1" descr=""/>
          <p:cNvPicPr/>
          <p:nvPr/>
        </p:nvPicPr>
        <p:blipFill>
          <a:blip r:embed="rId1"/>
          <a:stretch/>
        </p:blipFill>
        <p:spPr>
          <a:xfrm>
            <a:off x="281160" y="291960"/>
            <a:ext cx="7600680" cy="1646280"/>
          </a:xfrm>
          <a:prstGeom prst="rect">
            <a:avLst/>
          </a:prstGeom>
          <a:ln w="0">
            <a:noFill/>
          </a:ln>
        </p:spPr>
      </p:pic>
      <p:sp>
        <p:nvSpPr>
          <p:cNvPr id="561" name="Номер слайда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D0BD-B6C8-41C2-8DBA-086A8E7592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5708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3200" spc="-1" strike="noStrike">
                <a:solidFill>
                  <a:srgbClr val="993300"/>
                </a:solidFill>
                <a:latin typeface="Century Gothic"/>
              </a:rPr>
              <a:t> </a:t>
            </a:r>
            <a:r>
              <a:rPr b="0" lang="ru-RU" sz="2500" spc="-1" strike="noStrike">
                <a:solidFill>
                  <a:srgbClr val="993300"/>
                </a:solidFill>
                <a:latin typeface="Century Gothic"/>
              </a:rPr>
              <a:t>РАСКРЫТИЕ  НЕОПРЕДЕЛЕННОСТЕЙ</a:t>
            </a:r>
            <a:br>
              <a:rPr sz="2500"/>
            </a:br>
            <a:r>
              <a:rPr b="0" lang="ru-RU" sz="2500" spc="-1" strike="noStrike">
                <a:solidFill>
                  <a:srgbClr val="993300"/>
                </a:solidFill>
                <a:latin typeface="Century Gothic"/>
              </a:rPr>
              <a:t>Правило Лопиталя ( </a:t>
            </a:r>
            <a:r>
              <a:rPr b="0" lang="en-US" sz="2500" spc="-1" strike="noStrike">
                <a:solidFill>
                  <a:srgbClr val="993300"/>
                </a:solidFill>
                <a:latin typeface="Century Gothic"/>
              </a:rPr>
              <a:t>L’Hopitale)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50920" y="1557360"/>
            <a:ext cx="76341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Century Gothic"/>
              </a:rPr>
              <a:t>  </a:t>
            </a:r>
            <a:r>
              <a:rPr b="1" i="1" lang="ru-RU" sz="2800" spc="-1" strike="noStrike">
                <a:solidFill>
                  <a:srgbClr val="000099"/>
                </a:solidFill>
                <a:latin typeface="Century Gothic"/>
              </a:rPr>
              <a:t>Неопределенности  типа      или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2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5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ля вычисления предела                 ,  относящегося к  неопределенности типа    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  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или       ,   при                   условии     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и существовании конечного предела      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    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ользуются 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правилом  Лопиталя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1" name="Номер слайда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3808-8767-4EB3-93F0-927A7B48F0AC}" type="slidenum">
              <a:rPr b="0" lang="ru-RU" sz="1200" spc="-1" strike="noStrike">
                <a:solidFill>
                  <a:srgbClr val="3e3d2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Object 5"/>
          <p:cNvGraphicFramePr/>
          <p:nvPr/>
        </p:nvGraphicFramePr>
        <p:xfrm>
          <a:off x="5508720" y="1557360"/>
          <a:ext cx="35856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1557360"/>
                    <a:ext cx="3585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4"/>
          <p:cNvGraphicFramePr/>
          <p:nvPr/>
        </p:nvGraphicFramePr>
        <p:xfrm>
          <a:off x="6804000" y="1484280"/>
          <a:ext cx="504720" cy="64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04000" y="1484280"/>
                    <a:ext cx="50472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Object 8"/>
          <p:cNvGraphicFramePr/>
          <p:nvPr/>
        </p:nvGraphicFramePr>
        <p:xfrm>
          <a:off x="4572000" y="2205000"/>
          <a:ext cx="1224000" cy="86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205000"/>
                    <a:ext cx="12240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Object 10"/>
          <p:cNvGraphicFramePr/>
          <p:nvPr/>
        </p:nvGraphicFramePr>
        <p:xfrm>
          <a:off x="6659640" y="2924280"/>
          <a:ext cx="358560" cy="57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1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59640" y="2924280"/>
                    <a:ext cx="35856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Object 12"/>
          <p:cNvGraphicFramePr/>
          <p:nvPr/>
        </p:nvGraphicFramePr>
        <p:xfrm>
          <a:off x="1403280" y="3500280"/>
          <a:ext cx="504720" cy="72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4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03280" y="3500280"/>
                    <a:ext cx="50472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Object 14"/>
          <p:cNvGraphicFramePr/>
          <p:nvPr/>
        </p:nvGraphicFramePr>
        <p:xfrm>
          <a:off x="5867280" y="3500280"/>
          <a:ext cx="1441440" cy="633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7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67280" y="3500280"/>
                    <a:ext cx="144144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Rectangle 1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Object 16"/>
          <p:cNvGraphicFramePr/>
          <p:nvPr/>
        </p:nvGraphicFramePr>
        <p:xfrm>
          <a:off x="2916360" y="3500280"/>
          <a:ext cx="1368360" cy="841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60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16360" y="3500280"/>
                    <a:ext cx="1368360" cy="8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Object 19"/>
          <p:cNvGraphicFramePr/>
          <p:nvPr/>
        </p:nvGraphicFramePr>
        <p:xfrm>
          <a:off x="1619280" y="5373720"/>
          <a:ext cx="2089080" cy="119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62" name="Object 1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19280" y="5373720"/>
                    <a:ext cx="208908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Object 18"/>
          <p:cNvGraphicFramePr/>
          <p:nvPr/>
        </p:nvGraphicFramePr>
        <p:xfrm>
          <a:off x="3780000" y="5373720"/>
          <a:ext cx="1871640" cy="1119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64" name="Object 1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780000" y="5373720"/>
                    <a:ext cx="187164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Rectangle 20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1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5122800" cy="44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94c600"/>
                </a:solidFill>
                <a:latin typeface="Century Gothic"/>
              </a:rPr>
              <a:t> </a:t>
            </a:r>
            <a:br>
              <a:rPr sz="2200"/>
            </a:br>
            <a:r>
              <a:rPr b="0" lang="ru-RU" sz="2800" spc="-1" strike="noStrike">
                <a:solidFill>
                  <a:srgbClr val="94c600"/>
                </a:solidFill>
                <a:latin typeface="Century Gothic"/>
              </a:rPr>
              <a:t>ТЕОРЕМА ЛОПИТАЛЯ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Object 2"/>
              <p:cNvSpPr txBox="1"/>
              <p:nvPr/>
            </p:nvSpPr>
            <p:spPr>
              <a:xfrm>
                <a:off x="3592440" y="3938760"/>
                <a:ext cx="16765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∞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" name="Номер слайда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5382-E90F-491F-BC27-5C8BB099F750}" type="slidenum">
              <a:rPr b="0" lang="ru-RU" sz="1200" spc="-1" strike="noStrike">
                <a:solidFill>
                  <a:srgbClr val="3e3d2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7"/>
          <p:cNvSpPr/>
          <p:nvPr/>
        </p:nvSpPr>
        <p:spPr>
          <a:xfrm>
            <a:off x="611280" y="836640"/>
            <a:ext cx="6985080" cy="58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функции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g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ы и имеют производные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'(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g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'(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) ≠ 0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екоторой окрестности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роме быть может самой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 пу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да, если существует предел отношения производных этих функц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4"/>
              <p:cNvSpPr txBox="1"/>
              <p:nvPr/>
            </p:nvSpPr>
            <p:spPr>
              <a:xfrm>
                <a:off x="2554200" y="3125880"/>
                <a:ext cx="417852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8"/>
              <p:cNvSpPr txBox="1"/>
              <p:nvPr/>
            </p:nvSpPr>
            <p:spPr>
              <a:xfrm>
                <a:off x="4649760" y="5229360"/>
                <a:ext cx="177156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826920" y="620640"/>
            <a:ext cx="6483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-218160" algn="just">
              <a:lnSpc>
                <a:spcPct val="13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то существует и предел отношения самих функций</a:t>
            </a: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                    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marL="218160" indent="-218160" algn="just">
              <a:lnSpc>
                <a:spcPct val="13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marL="218160" indent="-21816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и имеет место следующее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18160" indent="-218160" algn="just">
              <a:lnSpc>
                <a:spcPct val="13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marL="218160" indent="-218160" algn="just">
              <a:lnSpc>
                <a:spcPct val="13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e3d2d"/>
              </a:solidFill>
              <a:latin typeface="Century Gothic"/>
            </a:endParaRPr>
          </a:p>
          <a:p>
            <a:pPr marL="218160" indent="-218160" algn="just">
              <a:lnSpc>
                <a:spcPct val="13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600" spc="-1" strike="noStrike">
              <a:solidFill>
                <a:srgbClr val="3e3d2d"/>
              </a:solidFill>
              <a:latin typeface="Century Gothic"/>
            </a:endParaRPr>
          </a:p>
          <a:p>
            <a:pPr marL="218160" indent="-218160" algn="just">
              <a:lnSpc>
                <a:spcPct val="13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e3d2d"/>
              </a:solidFill>
              <a:latin typeface="Century Gothic"/>
            </a:endParaRPr>
          </a:p>
          <a:p>
            <a:pPr marL="218160" indent="-218160" algn="just">
              <a:lnSpc>
                <a:spcPct val="13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e3d2d"/>
              </a:solidFill>
              <a:latin typeface="Century Gothic"/>
            </a:endParaRPr>
          </a:p>
          <a:p>
            <a:pPr marL="218160" indent="-218160" algn="just">
              <a:lnSpc>
                <a:spcPct val="13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e3d2d"/>
              </a:solidFill>
              <a:latin typeface="Century Gothic"/>
            </a:endParaRPr>
          </a:p>
          <a:p>
            <a:pPr marL="218160" indent="-218160" algn="just">
              <a:lnSpc>
                <a:spcPct val="13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F59F-151C-4D75-BDF7-54A9ED3D05C4}" type="slidenum">
              <a:rPr b="0" lang="ru-RU" sz="1200" spc="-1" strike="noStrike">
                <a:solidFill>
                  <a:srgbClr val="3e3d2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3"/>
              <p:cNvSpPr txBox="1"/>
              <p:nvPr/>
            </p:nvSpPr>
            <p:spPr>
              <a:xfrm>
                <a:off x="3635280" y="1052640"/>
                <a:ext cx="15084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5"/>
              <p:cNvSpPr txBox="1"/>
              <p:nvPr/>
            </p:nvSpPr>
            <p:spPr>
              <a:xfrm>
                <a:off x="2100240" y="2637000"/>
                <a:ext cx="397836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7" name="TextBox 9"/>
          <p:cNvSpPr/>
          <p:nvPr/>
        </p:nvSpPr>
        <p:spPr>
          <a:xfrm>
            <a:off x="755280" y="5796000"/>
            <a:ext cx="11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м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0"/>
          <p:cNvSpPr/>
          <p:nvPr/>
        </p:nvSpPr>
        <p:spPr>
          <a:xfrm>
            <a:off x="539640" y="3573360"/>
            <a:ext cx="7272360" cy="22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entury Gothic"/>
              </a:rPr>
              <a:t>Замечание. </a:t>
            </a: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Отметим, что формула (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1</a:t>
            </a: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) справедлива только в том случае если предел, стоящий справа, существует. Может случиться, что предел, стоящий слева существует, в то время как предел, стоящий в правой части равенства, не существу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6"/>
              <p:cNvSpPr txBox="1"/>
              <p:nvPr/>
            </p:nvSpPr>
            <p:spPr>
              <a:xfrm>
                <a:off x="4932360" y="5462640"/>
                <a:ext cx="22068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1331640" y="-963720"/>
            <a:ext cx="64832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3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 algn="just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 algn="just">
              <a:lnSpc>
                <a:spcPct val="13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 algn="just">
              <a:lnSpc>
                <a:spcPct val="13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 algn="just">
              <a:lnSpc>
                <a:spcPct val="13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 algn="just">
              <a:lnSpc>
                <a:spcPct val="13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 algn="just">
              <a:lnSpc>
                <a:spcPct val="13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 algn="just">
              <a:lnSpc>
                <a:spcPct val="13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1" name="Номер слайда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86DF-D91C-43CF-929E-F325261DF5A8}" type="slidenum">
              <a:rPr b="0" lang="ru-RU" sz="1200" spc="-1" strike="noStrike">
                <a:solidFill>
                  <a:srgbClr val="3e3d2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Object 4"/>
              <p:cNvSpPr txBox="1"/>
              <p:nvPr/>
            </p:nvSpPr>
            <p:spPr>
              <a:xfrm>
                <a:off x="879480" y="781200"/>
                <a:ext cx="534816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3" name="TextBox 11"/>
          <p:cNvSpPr/>
          <p:nvPr/>
        </p:nvSpPr>
        <p:spPr>
          <a:xfrm>
            <a:off x="695520" y="2195640"/>
            <a:ext cx="40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предел отношения производ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Object 5"/>
              <p:cNvSpPr txBox="1"/>
              <p:nvPr/>
            </p:nvSpPr>
            <p:spPr>
              <a:xfrm>
                <a:off x="4716360" y="2035080"/>
                <a:ext cx="147024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5" name="TextBox 13"/>
          <p:cNvSpPr/>
          <p:nvPr/>
        </p:nvSpPr>
        <p:spPr>
          <a:xfrm>
            <a:off x="672120" y="28432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существу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72388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4c600"/>
                </a:solidFill>
                <a:uFillTx/>
                <a:latin typeface="Century Gothic"/>
              </a:rPr>
              <a:t>ПРИЕМЫ  РАСКРЫТИЯ  НЕОПРЕДЕЛЕННОСТЕЙ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250560" y="1557000"/>
            <a:ext cx="7777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Century Gothic"/>
              </a:rPr>
              <a:t>1)  Неопределенности  типа      или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2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ля вычисления предела                 ,  относящегося к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еопределенности типа        или       , при  условии     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и существовании конечного предела   пользуются 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правилом  Лопиталя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8" name="Номер слайда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9C8A-C463-4D70-8089-66E7C8A5C8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Object 5"/>
          <p:cNvGraphicFramePr/>
          <p:nvPr/>
        </p:nvGraphicFramePr>
        <p:xfrm>
          <a:off x="5867280" y="1413000"/>
          <a:ext cx="36540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1413000"/>
                    <a:ext cx="36540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Object 4"/>
          <p:cNvGraphicFramePr/>
          <p:nvPr/>
        </p:nvGraphicFramePr>
        <p:xfrm>
          <a:off x="7020000" y="1341360"/>
          <a:ext cx="68724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20000" y="1341360"/>
                    <a:ext cx="68724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Object 8"/>
          <p:cNvGraphicFramePr/>
          <p:nvPr/>
        </p:nvGraphicFramePr>
        <p:xfrm>
          <a:off x="4572000" y="1919160"/>
          <a:ext cx="1512720" cy="10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1919160"/>
                    <a:ext cx="1512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Object 10"/>
          <p:cNvGraphicFramePr/>
          <p:nvPr/>
        </p:nvGraphicFramePr>
        <p:xfrm>
          <a:off x="4591080" y="2944800"/>
          <a:ext cx="358920" cy="71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8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91080" y="2944800"/>
                    <a:ext cx="35892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Object 12"/>
          <p:cNvGraphicFramePr/>
          <p:nvPr/>
        </p:nvGraphicFramePr>
        <p:xfrm>
          <a:off x="5796000" y="2944800"/>
          <a:ext cx="366840" cy="792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1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96000" y="2944800"/>
                    <a:ext cx="36684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Object 14"/>
          <p:cNvGraphicFramePr/>
          <p:nvPr/>
        </p:nvGraphicFramePr>
        <p:xfrm>
          <a:off x="2195640" y="3411360"/>
          <a:ext cx="1584360" cy="648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4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95640" y="3411360"/>
                    <a:ext cx="158436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Rectangle 1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Object 16"/>
          <p:cNvGraphicFramePr/>
          <p:nvPr/>
        </p:nvGraphicFramePr>
        <p:xfrm>
          <a:off x="7093080" y="2813040"/>
          <a:ext cx="1224000" cy="841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7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093080" y="2813040"/>
                    <a:ext cx="122400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Object 19"/>
          <p:cNvGraphicFramePr/>
          <p:nvPr/>
        </p:nvGraphicFramePr>
        <p:xfrm>
          <a:off x="2124000" y="4751280"/>
          <a:ext cx="2376720" cy="1486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9" name="Object 1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124000" y="4751280"/>
                    <a:ext cx="237672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Object 18"/>
          <p:cNvGraphicFramePr/>
          <p:nvPr/>
        </p:nvGraphicFramePr>
        <p:xfrm>
          <a:off x="4716360" y="4829040"/>
          <a:ext cx="2160720" cy="1408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11" name="Object 1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716360" y="4829040"/>
                    <a:ext cx="2160720" cy="14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Rectangle 20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1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651204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Пример </a:t>
            </a: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1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6840" y="1599840"/>
            <a:ext cx="181116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3d2d"/>
                </a:solidFill>
                <a:latin typeface="Century Gothic"/>
              </a:rPr>
              <a:t>Найти</a:t>
            </a:r>
            <a:r>
              <a:rPr b="1" i="1" lang="en-U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1048-3524-47A8-9974-FDA9D3614F83}" type="slidenum">
              <a:rPr b="0" lang="ru-RU" sz="12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Объект 4"/>
              <p:cNvSpPr txBox="1"/>
              <p:nvPr/>
            </p:nvSpPr>
            <p:spPr>
              <a:xfrm>
                <a:off x="711360" y="1989000"/>
                <a:ext cx="202392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8" name="TextBox 5"/>
          <p:cNvSpPr/>
          <p:nvPr/>
        </p:nvSpPr>
        <p:spPr>
          <a:xfrm>
            <a:off x="133200" y="3213000"/>
            <a:ext cx="67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Решение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. Имеем неопределенность в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Объект 6"/>
              <p:cNvSpPr txBox="1"/>
              <p:nvPr/>
            </p:nvSpPr>
            <p:spPr>
              <a:xfrm>
                <a:off x="6629400" y="2997360"/>
                <a:ext cx="7048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∞</m:t>
                            </m:r>
                          </m:num>
                          <m:den>
                            <m:r>
                              <m:t xml:space="preserve">∞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Объект 7"/>
              <p:cNvSpPr txBox="1"/>
              <p:nvPr/>
            </p:nvSpPr>
            <p:spPr>
              <a:xfrm>
                <a:off x="755640" y="4005360"/>
                <a:ext cx="6508800" cy="13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∞</m:t>
                            </m:r>
                          </m:num>
                          <m:den>
                            <m:r>
                              <m:t xml:space="preserve">∞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x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1" name="TextBox 8"/>
          <p:cNvSpPr/>
          <p:nvPr/>
        </p:nvSpPr>
        <p:spPr>
          <a:xfrm>
            <a:off x="789480" y="5445000"/>
            <a:ext cx="20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Ответ</a:t>
            </a: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66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4c600"/>
                </a:solidFill>
                <a:uFillTx/>
                <a:latin typeface="Century Gothic"/>
              </a:rPr>
              <a:t>ПРИЕМЫ  РАСКРЫТИЯ  НЕОПРЕДЕЛЕННОСТЕЙ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178920" y="1557360"/>
            <a:ext cx="7417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Century Gothic"/>
              </a:rPr>
              <a:t>2)</a:t>
            </a:r>
            <a:r>
              <a:rPr b="1" lang="ru-RU" sz="2400" spc="-1" strike="noStrike">
                <a:solidFill>
                  <a:srgbClr val="000099"/>
                </a:solidFill>
                <a:latin typeface="Century Gothic"/>
              </a:rPr>
              <a:t>  </a:t>
            </a:r>
            <a:r>
              <a:rPr b="1" i="1" lang="ru-RU" sz="2400" spc="-1" strike="noStrike">
                <a:solidFill>
                  <a:srgbClr val="000099"/>
                </a:solidFill>
                <a:latin typeface="Century Gothic"/>
              </a:rPr>
              <a:t>Неопределенности  типа</a:t>
            </a:r>
            <a:r>
              <a:rPr b="1" i="1" lang="ru-RU" sz="2400" spc="-1" strike="noStrike">
                <a:solidFill>
                  <a:srgbClr val="3e3d2d"/>
                </a:solidFill>
                <a:latin typeface="Century Gothic"/>
              </a:rPr>
              <a:t>    </a:t>
            </a:r>
            <a:r>
              <a:rPr b="1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ля вычисления предела: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                              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 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тносящегося к неопределенности типа          ,             следует преобразовать произведение                              в частное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24" name="Номер слайда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9C7F-9608-421C-86ED-C2B984B031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Object 4"/>
          <p:cNvGraphicFramePr/>
          <p:nvPr/>
        </p:nvGraphicFramePr>
        <p:xfrm>
          <a:off x="5435640" y="1413000"/>
          <a:ext cx="1081080" cy="62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1413000"/>
                    <a:ext cx="108108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Rectangle 7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Object 6"/>
          <p:cNvGraphicFramePr/>
          <p:nvPr/>
        </p:nvGraphicFramePr>
        <p:xfrm>
          <a:off x="4932360" y="1989000"/>
          <a:ext cx="288144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1989000"/>
                    <a:ext cx="288144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Rectangle 9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Object 8"/>
          <p:cNvGraphicFramePr/>
          <p:nvPr/>
        </p:nvGraphicFramePr>
        <p:xfrm>
          <a:off x="7308720" y="3041640"/>
          <a:ext cx="865440" cy="49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08720" y="3041640"/>
                    <a:ext cx="86544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Rectangle 11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Object 10"/>
          <p:cNvGraphicFramePr/>
          <p:nvPr/>
        </p:nvGraphicFramePr>
        <p:xfrm>
          <a:off x="5940360" y="3500280"/>
          <a:ext cx="1513080" cy="490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6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0360" y="3500280"/>
                    <a:ext cx="151308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Rectangle 13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Object 12"/>
          <p:cNvGraphicFramePr/>
          <p:nvPr/>
        </p:nvGraphicFramePr>
        <p:xfrm>
          <a:off x="611280" y="4581360"/>
          <a:ext cx="2879640" cy="1408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9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1280" y="4581360"/>
                    <a:ext cx="2879640" cy="14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Rectangle 15"/>
          <p:cNvSpPr/>
          <p:nvPr/>
        </p:nvSpPr>
        <p:spPr>
          <a:xfrm>
            <a:off x="3465720" y="4723200"/>
            <a:ext cx="36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определенность типа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1" name="Object 14"/>
          <p:cNvGraphicFramePr/>
          <p:nvPr/>
        </p:nvGraphicFramePr>
        <p:xfrm>
          <a:off x="7236000" y="4508640"/>
          <a:ext cx="365040" cy="936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42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236000" y="4508640"/>
                    <a:ext cx="36504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Rectangle 17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94c600"/>
                </a:solidFill>
                <a:uFillTx/>
                <a:latin typeface="Century Gothic"/>
              </a:rPr>
              <a:t> </a:t>
            </a:r>
            <a:r>
              <a:rPr b="0" i="1" lang="ru-RU" sz="2400" spc="-1" strike="noStrike" u="sng">
                <a:solidFill>
                  <a:srgbClr val="94c600"/>
                </a:solidFill>
                <a:uFillTx/>
                <a:latin typeface="Century Gothic"/>
              </a:rPr>
              <a:t>ПРИЕМЫ  РАСКРЫТИЯ  НЕОПРЕДЕЛЕННОСТЕЙ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445" name="Object 4"/>
          <p:cNvGraphicFramePr/>
          <p:nvPr/>
        </p:nvGraphicFramePr>
        <p:xfrm>
          <a:off x="1258920" y="1735200"/>
          <a:ext cx="2951280" cy="136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735200"/>
                    <a:ext cx="295128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Номер слайда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775D-71AB-4793-9C68-C44AAC89EB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8" name="Object 7"/>
          <p:cNvGraphicFramePr/>
          <p:nvPr/>
        </p:nvGraphicFramePr>
        <p:xfrm>
          <a:off x="7596360" y="1557360"/>
          <a:ext cx="523800" cy="113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1557360"/>
                    <a:ext cx="52380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Rectangle 9"/>
          <p:cNvSpPr/>
          <p:nvPr/>
        </p:nvSpPr>
        <p:spPr>
          <a:xfrm>
            <a:off x="395280" y="1732320"/>
            <a:ext cx="115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0"/>
          <p:cNvSpPr/>
          <p:nvPr/>
        </p:nvSpPr>
        <p:spPr>
          <a:xfrm>
            <a:off x="3897720" y="1915200"/>
            <a:ext cx="363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определенность типа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3"/>
          <p:cNvSpPr/>
          <p:nvPr/>
        </p:nvSpPr>
        <p:spPr>
          <a:xfrm>
            <a:off x="973440" y="3859560"/>
            <a:ext cx="67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ее воспользоваться  правилом  Лопита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06:15:39Z</dcterms:created>
  <dc:creator>к.502</dc:creator>
  <dc:description/>
  <dc:language>en-US</dc:language>
  <cp:lastModifiedBy>Пользователь</cp:lastModifiedBy>
  <dcterms:modified xsi:type="dcterms:W3CDTF">2018-07-01T12:37:23Z</dcterms:modified>
  <cp:revision>70</cp:revision>
  <dc:subject/>
  <dc:title>ПРОИЗВОДНАЯ  ФУНКЦИИ </dc:title>
</cp:coreProperties>
</file>